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02D-F107-4FFC-9C92-740CDFB2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145-E965-43C4-BF14-315918F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543-BE5A-430E-AC04-BA8E526D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398-D11E-4521-8D0E-D4C0BD0D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FD9-833D-4DA5-9F4B-F1D50F7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479-14E1-4B79-841B-9488FF92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ED7-F272-4FBB-85C4-46B238ED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C13-81DB-4071-819F-2491EB1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A62-5893-4004-9974-8A1E15A4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BA3-A99E-4F9E-9D34-75AAB91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7BE-FEC9-4E55-B45D-9DE3CA0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206-52C2-45ED-9B46-DC684D0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36A-8C38-4B30-B244-22449CF45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Science fai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By: Gus truel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8520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Which can tell the different gum flavors /male/ femal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I think girls will be able to tell the difference better because you see them chewing gum a lot more</a:t>
            </a: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Orb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Trident</a:t>
            </a: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Testers boy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Co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Chase</a:t>
            </a: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My conclusion ends with girls did better at testing than boys. Because of the more they chew the easier it will be able to tel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Testers gir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Linds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Yah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Procedu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1- Gather all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2-get the t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3-binldfold the t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4-take 1 at a ti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5- give them each a piece of gum (1 sti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44:09Z</dcterms:created>
  <dc:creator>USD376</dc:creator>
  <dc:description/>
  <dc:language>en-US</dc:language>
  <cp:lastModifiedBy>STERLING  USD376</cp:lastModifiedBy>
  <cp:lastPrinted>2010-05-04T13:38:36Z</cp:lastPrinted>
  <dcterms:modified xsi:type="dcterms:W3CDTF">2010-05-04T13:46:43Z</dcterms:modified>
  <cp:revision>8</cp:revision>
  <dc:subject/>
  <dc:title>Science fair project</dc:title>
</cp:coreProperties>
</file>